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A5A-5D38-4331-BAB8-913DF3C0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ECC-28EC-4063-85C4-AB1775E8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681-8AFB-41A8-9135-4ACD9424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991-36E8-4628-A1A4-7A803E4A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401-9BA9-47D1-AFF3-26020CF1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29A-4BB3-4C74-99B4-98BEE6C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B3A-8002-4F01-8637-7262888B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415-0C48-464C-8E13-40E021BF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EAB-236C-4726-8D50-E5DDFAAE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A44-250B-4C2A-81C1-34A7910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B01-E6C0-4E18-82EC-74DAE80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46C-928B-4083-AE0D-F58BA22C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A6D-AA45-4DD4-8D43-1A571C64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362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ff"/>
                </a:solidFill>
                <a:latin typeface="Berlin Sans FB"/>
              </a:rPr>
              <a:t>Bubbling Home</a:t>
            </a: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165096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144000" y="51814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2895480"/>
            <a:ext cx="1295280" cy="1067040"/>
          </a:xfrm>
          <a:prstGeom prst="cloudCallout">
            <a:avLst>
              <a:gd name="adj1" fmla="val -20222"/>
              <a:gd name="adj2" fmla="val 191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Bored skip: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611600">
            <a:off x="5333760" y="3047760"/>
            <a:ext cx="1371600" cy="1219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well want to fly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229600" y="0"/>
            <a:ext cx="1447920" cy="114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4600" y="0"/>
            <a:ext cx="1333440" cy="1150920"/>
          </a:xfrm>
          <a:prstGeom prst="wedgeRectCallout">
            <a:avLst>
              <a:gd name="adj1" fmla="val -46902"/>
              <a:gd name="adj2" fmla="val 6103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uck you tw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! Ha-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28 -3.00578E-006 L 0.56528 -3.00578E-006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9306E-006 L -0.39791 0.00554 E">
                                      <p:cBhvr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5723E-006 C -0.04723 -0.01456 -0.09445 -0.0289 -0.14289 -0.02751 C -0.19132 -0.02613 -0.24497 0.00879 -0.29046 0.00833 C -0.33594 0.00786 -0.37744 -0.02821 -0.4158 -0.02959 C -0.45417 -0.03098 -0.50157 -0.00046 -0.52066 -3.75723E-006 E">
                                      <p:cBhvr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51988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3429000"/>
            <a:ext cx="1752480" cy="990720"/>
          </a:xfrm>
          <a:prstGeom prst="cloudCallout">
            <a:avLst>
              <a:gd name="adj1" fmla="val -32606"/>
              <a:gd name="adj2" fmla="val 116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y, Lo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581280"/>
            <a:ext cx="914400" cy="762120"/>
          </a:xfrm>
          <a:prstGeom prst="wedgeEllipseCallout">
            <a:avLst>
              <a:gd name="adj1" fmla="val -41143"/>
              <a:gd name="adj2" fmla="val 7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y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380880"/>
            <a:ext cx="1905120" cy="141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828800" y="1523880"/>
            <a:ext cx="914400" cy="68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934320" y="0"/>
            <a:ext cx="114300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7010280" y="1676520"/>
            <a:ext cx="762120" cy="56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267080" y="1447920"/>
            <a:ext cx="19051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4120" y="49528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53080" y="3581280"/>
            <a:ext cx="1676520" cy="1219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lets go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657600"/>
            <a:ext cx="1371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962520"/>
            <a:ext cx="1523880" cy="1447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G! Help me!! A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191120"/>
            <a:ext cx="1523880" cy="1143000"/>
          </a:xfrm>
          <a:prstGeom prst="cloudCallout">
            <a:avLst>
              <a:gd name="adj1" fmla="val -28541"/>
              <a:gd name="adj2" fmla="val 773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ry budd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447920" y="4108320"/>
            <a:ext cx="3457440" cy="274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676520" y="-762120"/>
            <a:ext cx="342900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532 C 0.01702 -0.00532 0.03368 -0.01572 0.03004 0.06266 C 0.02639 0.14104 -0.01354 0.35769 -0.02135 0.477 C -0.02916 0.5963 -0.01684 0.73133 -0.01684 0.77989 E">
                                      <p:cBhvr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63836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447920" y="4108320"/>
            <a:ext cx="3457440" cy="2749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3200400"/>
            <a:ext cx="14475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fe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ya 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752480"/>
            <a:ext cx="1752480" cy="1524240"/>
          </a:xfrm>
          <a:prstGeom prst="wedgeEllipseCallout">
            <a:avLst>
              <a:gd name="adj1" fmla="val -48097"/>
              <a:gd name="adj2" fmla="val 18125"/>
            </a:avLst>
          </a:prstGeom>
          <a:solidFill>
            <a:srgbClr val="f888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leave me AHH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09680" y="1190520"/>
            <a:ext cx="1857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71676E-006 L 0.0026 -0.41017 E">
                                      <p:cBhvr>
                                        <p:cTn id="16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7" dur="123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8" dur="123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80" dur="123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8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6069E-006 L -0.00156 -0.27399 E">
                                      <p:cBhvr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928800" y="6119640"/>
            <a:ext cx="1857600" cy="14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3880" y="228600"/>
            <a:ext cx="1371600" cy="1066680"/>
          </a:xfrm>
          <a:prstGeom prst="cloudCallout">
            <a:avLst>
              <a:gd name="adj1" fmla="val -71527"/>
              <a:gd name="adj2" fmla="val 98513"/>
            </a:avLst>
          </a:prstGeom>
          <a:solidFill>
            <a:srgbClr val="fda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his is Nic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1857600" cy="14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144000" y="4710240"/>
            <a:ext cx="4172040" cy="214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915400" y="0"/>
            <a:ext cx="1857240" cy="147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6200" y="1371600"/>
            <a:ext cx="1219320" cy="1066680"/>
          </a:xfrm>
          <a:prstGeom prst="wedgeEllipseCallout">
            <a:avLst>
              <a:gd name="adj1" fmla="val -82032"/>
              <a:gd name="adj2" fmla="val 57587"/>
            </a:avLst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what is this?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886200"/>
            <a:ext cx="1295640" cy="990720"/>
          </a:xfrm>
          <a:prstGeom prst="cloudCallout">
            <a:avLst>
              <a:gd name="adj1" fmla="val -79902"/>
              <a:gd name="adj2" fmla="val 75638"/>
            </a:avLst>
          </a:prstGeom>
          <a:solidFill>
            <a:srgbClr val="dc48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4624E-007 C 0.02743 -0.02312 0.05503 -0.04624 0.06666 -0.16277 C 0.0783 -0.2793 0.07396 -0.48948 0.06979 -0.69965 E">
                                      <p:cBhvr>
                                        <p:cTn id="19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1595 C 0.00885 -0.01272 0.01771 -0.00902 0.09028 -0.00694 C 0.16285 -0.00509 0.34913 0.03676 0.43524 -0.00393 C 0.52135 -0.04463 0.57812 -0.2141 0.60677 -0.25179 E">
                                      <p:cBhvr>
                                        <p:cTn id="22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3873E-006 L -0.8448 0.00116 E">
                                      <p:cBhvr>
                                        <p:cTn id="231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22 0.14197 C -0.10555 0.15839 -0.11371 0.1748 -0.15121 0.18844 C -0.18871 0.20209 -0.25677 0.22498 -0.32257 0.22428 C -0.38837 0.22359 -0.47673 0.18498 -0.54635 0.18428 C -0.61597 0.18359 -0.70885 0.21665 -0.7401 0.22012 E">
                                      <p:cBhvr>
                                        <p:cTn id="239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185760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144000" y="4710240"/>
            <a:ext cx="4172040" cy="2147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133720" y="2835360"/>
            <a:ext cx="3857400" cy="37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1752480"/>
            <a:ext cx="1676520" cy="1143000"/>
          </a:xfrm>
          <a:prstGeom prst="cloudCallout">
            <a:avLst>
              <a:gd name="adj1" fmla="val -44601"/>
              <a:gd name="adj2" fmla="val 70000"/>
            </a:avLst>
          </a:prstGeom>
          <a:solidFill>
            <a:srgbClr val="a1f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Iron-h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28600"/>
            <a:ext cx="1295280" cy="1219320"/>
          </a:xfrm>
          <a:prstGeom prst="wedgeRoundRectCallout">
            <a:avLst>
              <a:gd name="adj1" fmla="val -44486"/>
              <a:gd name="adj2" fmla="val 47527"/>
              <a:gd name="adj3" fmla="val 16667"/>
            </a:avLst>
          </a:prstGeom>
          <a:solidFill>
            <a:srgbClr val="e83c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H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G HELP M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057400"/>
            <a:ext cx="1371600" cy="1523880"/>
          </a:xfrm>
          <a:prstGeom prst="wedgeEllipseCallout">
            <a:avLst>
              <a:gd name="adj1" fmla="val -61689"/>
              <a:gd name="adj2" fmla="val 6291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friends will be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0"/>
            <a:ext cx="1143000" cy="1066680"/>
          </a:xfrm>
          <a:prstGeom prst="cloudCallout">
            <a:avLst>
              <a:gd name="adj1" fmla="val -50416"/>
              <a:gd name="adj2" fmla="val 98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N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-2666880" y="4648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3233880"/>
            <a:ext cx="2695680" cy="362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981080"/>
            <a:ext cx="1295280" cy="1295640"/>
          </a:xfrm>
          <a:prstGeom prst="wedgeEllipseCallout">
            <a:avLst>
              <a:gd name="adj1" fmla="val -44486"/>
              <a:gd name="adj2" fmla="val 48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Bumble 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91320" y="2895480"/>
            <a:ext cx="264780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38880" y="1295280"/>
            <a:ext cx="1447920" cy="1295640"/>
          </a:xfrm>
          <a:prstGeom prst="cloudCallout">
            <a:avLst>
              <a:gd name="adj1" fmla="val -44736"/>
              <a:gd name="adj2" fmla="val 558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c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3873E-006 L -0.7698 0.00116 E">
                                      <p:cBhvr>
                                        <p:cTn id="258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-0.01595 C 0.08142 -0.02566 0.08038 -0.0289 0.08993 -0.03214 C 0.09705 -0.05225 0.10139 -0.0548 0.11215 -0.06959 C 0.11805 -0.07769 0.12309 -0.0867 0.12899 -0.0948 C 0.13125 -0.09803 0.13368 -0.10127 0.13594 -0.10428 C 0.13733 -0.10636 0.1375 -0.10959 0.13924 -0.11121 C 0.14236 -0.11375 0.14601 -0.11445 0.14948 -0.11584 C 0.15104 -0.11676 0.15451 -0.11815 0.15451 -0.11792 C 0.16198 -0.11745 0.16944 -0.11861 0.17674 -0.11584 C 0.19132 -0.11029 0.2033 -0.09433 0.21771 -0.08809 C 0.22483 -0.07098 0.22517 -0.0793 0.23281 -0.06243 C 0.23351 -0.0474 0.22726 -0.01526 0.24132 -0.00902 C 0.26354 -0.00994 0.28559 -0.00994 0.30764 -0.01133 C 0.31337 -0.01156 0.32274 -0.02312 0.32274 -0.02289 C 0.3243 -0.02844 0.32448 -0.03422 0.32639 -0.0393 C 0.32986 -0.04832 0.33837 -0.05803 0.3434 -0.06474 C 0.34601 -0.06821 0.35365 -0.06959 0.35365 -0.06913 C 0.41753 -0.06797 0.43455 -0.06867 0.48281 -0.0578 C 0.4908 -0.05433 0.49826 -0.05248 0.50677 -0.05086 C 0.51267 -0.04786 0.5158 -0.04254 0.52187 -0.0393 C 0.53194 -0.03399 0.53299 -0.03445 0.54392 -0.03214 C 0.5526 -0.02844 0.55573 -0.0178 0.56285 -0.01133 C 0.5651 -0.00925 0.57378 -0.00277 0.57639 0.00255 C 0.58299 0.01572 0.58472 0.0363 0.5967 0.04185 C 0.59965 0.05226 0.6026 0.06174 0.60538 0.07214 C 0.60573 0.07445 0.60712 0.07885 0.60712 0.07931 C 0.60295 0.09596 0.59757 0.1059 0.58663 0.1163 C 0.57708 0.13503 0.54184 0.12023 0.52535 0.11862 C 0.50816 0.11075 0.49097 0.11862 0.4743 0.12301 C 0.47326 0.12763 0.47396 0.13457 0.47101 0.13711 C 0.4599 0.14705 0.44635 0.14983 0.43368 0.1533 C 0.42899 0.1526 0.42448 0.15283 0.41996 0.15098 C 0.41233 0.14798 0.40312 0.12208 0.39618 0.11399 C 0.39028 0.10705 0.38316 0.10659 0.37569 0.10451 C 0.36597 0.09619 0.37014 0.09596 0.35694 0.09295 C 0.34358 0.0807 0.33559 0.08532 0.31615 0.0837 C 0.30521 0.08208 0.30087 0.08208 0.29236 0.07445 C 0.2658 0.07515 0.23889 0.07515 0.2125 0.07677 C 0.20538 0.077 0.2 0.08393 0.19375 0.08833 C 0.1868 0.09318 0.17795 0.09156 0.16996 0.09295 C 0.16892 0.09526 0.16788 0.09804 0.16649 0.10012 C 0.16493 0.10197 0.1625 0.1022 0.16146 0.10451 C 0.14983 0.12694 0.16719 0.10705 0.15104 0.12301 C 0.14236 0.14174 0.1316 0.14382 0.11719 0.14636 C 0.07066 0.16255 0.10226 0.15098 -0.00695 0.14867 C -0.06146 0.13919 -0.01597 0.1459 -0.10573 0.14174 C -0.13073 0.14035 -0.18038 0.13711 -0.18038 0.13734 C -0.18906 0.13133 -0.19601 0.12278 -0.20434 0.1163 C -0.20868 0.1126 -0.21163 0.11214 -0.21441 0.10682 C -0.22014 0.09642 -0.22552 0.08671 -0.23125 0.07677 C -0.23559 0.06937 -0.23715 0.06127 -0.24167 0.05364 C -0.24201 0.05133 -0.24323 0.04648 -0.24323 0.04671 E">
                                      <p:cBhvr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The E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:Iron H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Bumble 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Ratc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Sk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MADE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Sammi Lau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8:30:23Z</dcterms:created>
  <dc:creator>JEFFCO</dc:creator>
  <dc:description/>
  <dc:language>en-US</dc:language>
  <cp:lastModifiedBy>JEFFCO</cp:lastModifiedBy>
  <dcterms:modified xsi:type="dcterms:W3CDTF">2009-11-17T19:29:16Z</dcterms:modified>
  <cp:revision>7</cp:revision>
  <dc:subject/>
  <dc:title>Slide 1</dc:title>
</cp:coreProperties>
</file>